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ED3-CDF1-4979-969F-27E556A2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16F-8F3B-4879-B80F-866F7D72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B4F-EA2E-4E58-AE06-3B40C9F3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3EB-CB28-4331-ABBD-555B1ED0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CDF-C95F-4441-9BB3-216DB71E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8F6-08E7-452B-800B-81144B3A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503-39E7-4A3C-BD98-7041D832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CC4-8A55-401D-96DB-AB68696C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BAE-7678-4C09-8910-F10CD49E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B6C8-79A8-4974-84C3-6EBC77F7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198-DB8E-49F1-B6CD-9798A816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6ED2-8499-4FAA-87B0-81F23AE6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D945-B299-4135-95F3-7882FEA8AF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5638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43800" y="5181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257800" y="4267080"/>
            <a:ext cx="0" cy="609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4267080"/>
            <a:ext cx="17524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4267080"/>
            <a:ext cx="609480" cy="838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7086600" cy="4724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4380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858000" y="41148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6858000" y="4495320"/>
            <a:ext cx="83808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4-14T02:25:1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